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8F0C-0B1A-4638-80BB-73A9EBBC9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158D-7F93-4438-B1D8-0E9090AAF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055-2D65-4213-8DEF-024C780B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CE1-C0F3-4AB0-B694-B7C918B1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A32D8-7E24-43AC-BEEC-6CE585C1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9A84C-4DEF-4F84-A40A-67DF77C2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98F3B-41E5-4D1A-8DEF-543B7A10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2607C-4C4F-486F-9340-531D9EE7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D509A-384D-4FE8-85F1-56624F48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CC89D-18A5-443B-9A76-64C1B601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6D495-7CAD-4BB4-A90A-34C7AE9B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8EDE4-554D-4F35-897A-F2132DBA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13A7C-CC65-44D5-94BA-2FFC87D7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BF4-3A05-4160-BC77-F35418F9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1AD-30BF-4A43-B6DF-C5D5A72C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077C-1241-412F-851C-9A20CECA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6B02-A995-438E-A255-D89D8BCC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0C7C-AEF2-4A16-8528-9E4805C0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3B22-C3D3-4035-ACAB-22C68DCF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01D2-5BEE-492A-8E4A-1445CAE4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87ED-90DF-4244-A80A-AC465F1F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B996-5E47-4B47-A7BA-8F0ED3E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1AF-AD72-43DC-8DA8-FAA073CE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EFC2-EA60-48D6-9001-F42BCC1F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7B03-F905-44A6-9304-C840DC68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2712-D1C4-4E2B-AA09-8FA6199B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0C2D-6C8D-4036-9CCB-DD032529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4857-D1DA-4CC7-8344-5A5FCFCA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39BF9-F066-4C35-8D76-A3C72532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24365-1A7E-437D-8680-F12C7272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F876-E343-4F9F-BD5A-967E3AB9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AFF2-C22F-4826-B96F-231FA841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8295E-36ED-4CD5-BEA0-C56C922D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A49-B1D7-44B8-807C-B6952488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1BF7-1E3B-4AC7-A64A-F6C5DCF8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2E6F0-7993-4897-BD1A-10329BD5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77D8-3320-4047-9A12-F1FDB822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523B-C10F-4A25-95D8-CC463B10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8500-DEC2-4145-997E-AAFA8855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48DDF-F56A-4826-B1B2-5A130F19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5CAF-F451-450F-91A2-7DD23450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1511E4-7469-41FB-91E3-3AF2F798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AAC8D-1189-4059-9899-3AA20958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53576-4175-403C-A5C4-EA5C0508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F48-DB85-4998-9083-C994A052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0A33B-3CDE-4326-8DE6-657124C6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34C2AB-5791-4730-BB30-F8BBE66D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C0694-50A5-425F-A0C1-3D70774B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D5336-E1BA-4A50-93C5-2DA8914D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F2926-C196-4FD9-900C-BEA9E776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8B174-C0F5-4C8D-9B64-D989AB5C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F91267-F573-4CB7-83A7-31E15F36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3EA08-766E-4822-AB07-DEC56BBB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D59E6-9EFB-46AE-B162-8490094B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0DB0E-7DCE-4098-91BA-3913A0AD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767-3357-402B-948A-9EB8761F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148D9-5FE8-4DAA-BFE3-B67CEFC2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B760B-AFEB-4D49-A4E3-87049179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AFCF9-7633-45D7-8E3A-DB5FD447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C7C68-B7DB-456B-8FE7-2D59F663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0203A-4C7C-4542-8001-7AD10DA9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7A508-25BF-4357-85F0-FC025112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2190D-FE97-499A-962B-CCB09144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16DC1-396A-4C99-8493-8271CCF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5846A-4D39-49EA-9F70-89F04459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E0F29-03C7-4ED3-B7C5-7C737EBC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6F7-228B-4175-9F08-25613F6D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AAC54-EA31-418A-8E71-BCF9EC98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95790-F595-474F-BFF0-E2A98DC5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D42280-C7EA-4D97-9600-BFA11635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9D1A9B-5113-4388-AA6C-0E5F295E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44D08-F6F3-4F3B-B05E-EA041EBE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78461-D193-473B-8730-A906BBF4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185AD-877F-43D6-8D5D-9B09B590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7BAC5B-C01D-441C-B6E3-50341C17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E801A-7ADD-4002-9408-42045C5B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5FE46-46A8-4AA7-BC11-C02D581D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36B-3731-4DD1-8191-F5AF33EC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BBEBC-E269-4FE9-B668-CF8489BB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6A2E8-F185-4EC1-8D5E-4EBDD6E1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EB9C9-35A1-4FEE-BBB7-94F9F1CC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E9131-3257-4AE7-87E1-DA4492FB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55254-8EDF-4BF5-A690-2C2502FD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E6736-7095-435F-8937-C936035A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1B8C5-2FA1-4980-A216-2409469A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40084-730E-4C3E-862C-BE0869C7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DE225-2D0C-4D60-937A-E18BD546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DC531-D3F5-4EF4-9C94-D8F3D2A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BA7-A0EA-4F52-9B68-BBA6CA15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2C3B8-9E52-4C28-B87A-CDC14208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A7A7D-F48F-4E77-AC01-800F765A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03B6B-6B5C-4EC5-9FEF-E26A45F9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2493F-3ECE-4E94-B612-30B1B2C7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71086-8836-4F7A-A3D2-F23E9F15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213798-A365-46B3-A397-71943A6B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C6332B-79EE-4E11-A540-ED0B4620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B656B3-C1E5-4604-A729-63535D6B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D4DECD-1D81-454D-B684-2CA3DC92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4C2EB-F5C3-4F05-8E71-67ADE8E7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2FD-9514-4609-8789-EE66DC02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411FD8-35D7-4BE7-BBDE-ECD2176C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57F094-C24E-4C2E-97F2-8D5FBDD0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CBA7B4-04B4-4449-ADFD-E2B7E3B5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2CB432-F5B1-403A-8139-BAD13C7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5CA9F7-FEE5-46D4-9F96-DA2737B0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58D6EC-0562-4C11-AA10-3E0705A6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4D7693-6BBB-4293-9488-FA7E24DA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1E511-56BD-4438-B286-023F35FD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2C921-59F7-4731-982F-B60DF7EA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A6DC7-6180-483F-AB1F-C4AB7545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A42B-708C-4BF6-A7D3-DACE1278A1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DAF7-3351-465B-837C-D288A818FBC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E6D4-424C-4EA8-AC5C-E0E605161662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9A4B-E402-47FF-8EF3-A7AB9E691019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33C4-997E-40C9-A220-A30729D919E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A4F7-A050-425B-AD10-189E37EA412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5951-0899-4795-B133-C95E4DFC9DE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3E00-735F-42C0-8862-BE348DAA5EA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10DC-AFAE-41C4-BE39-D07DA547ECD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Content Placeholder 3" descr="23"/>
          <p:cNvPicPr/>
          <p:nvPr/>
        </p:nvPicPr>
        <p:blipFill>
          <a:blip r:embed="rId1"/>
          <a:stretch/>
        </p:blipFill>
        <p:spPr>
          <a:xfrm>
            <a:off x="1752480" y="1447920"/>
            <a:ext cx="571500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Calibri"/>
                <a:cs typeface="Arial"/>
              </a:rPr>
              <a:t>اقدامات ذیل به ایجاد محیط کار سالم می تواند کمک کند</a:t>
            </a:r>
            <a:r>
              <a:rPr b="1" lang="fa-IR" sz="3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تشکیل شورای ارتقای سلامت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تدوین برنامه عملیاتی توسط شور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جرای برنامه های ارتقای سلامت تدوین شده در محیط ک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پایش و ارزشیابی برنامه توسط شور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Calibri"/>
                <a:cs typeface="Arial"/>
              </a:rPr>
              <a:t>اعضای شورای ارتقای سلامت در سازمان</a:t>
            </a:r>
            <a:r>
              <a:rPr b="1" lang="fa-IR" sz="3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دیر/مسئول سازم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عاونی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روابط عمومی سازم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کارشناس بهداشت حرفه ا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Calibri"/>
                <a:cs typeface="Arial"/>
              </a:rPr>
              <a:t>اعضای شورای ارتقای سلامت در مدرسه</a:t>
            </a:r>
            <a:r>
              <a:rPr b="1" lang="fa-IR" sz="3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دیر مدرس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ربی بهداش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راقب پرورش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نمایندگان معلمین مدرس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نمایندگی دانش آموز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نماینده انجمن اولیا و مربی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سئول تهیه و توزیع مواد غذائ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Calibri"/>
                <a:cs typeface="Arial"/>
              </a:rPr>
              <a:t>وظایف شورا</a:t>
            </a:r>
            <a:r>
              <a:rPr b="1" lang="fa-IR" sz="3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برگزاری منظم جلسات  حداقل هر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ماه یکب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برگزاری جلسات آموزشی خود مراقبتی برای کارکن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درگیر کردن کارکنان در توسعه برنام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رزشیابی داخلی و بازنگری برنام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984807"/>
                </a:solidFill>
                <a:latin typeface="Calibri"/>
                <a:cs typeface="B Titr"/>
              </a:rPr>
              <a:t>دستورالعمل اجرایی برنامه ملی خودمراقبت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6765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Nazanin"/>
              </a:rPr>
              <a:t>با توجه به گذار بيماري‌ها از واگير به غير واگير و حركت از درمان قطعي بيماري‌ها به مراقبت مادام العمر، نقش مردم در مراقبت از سلامت خود و اعضاي خانواده براي سالم زيستن، مديريت ناخوشي‌‌هاي جزيي، مديريت بيماري‌هاي مزمن و حاد روز به روز در حال افزايش است </a:t>
            </a:r>
            <a:r>
              <a:rPr b="0" lang="fa-IR" sz="3200" spc="-1" strike="noStrike" u="sng">
                <a:solidFill>
                  <a:srgbClr val="ff0000"/>
                </a:solidFill>
                <a:uFillTx/>
                <a:latin typeface="Calibri"/>
                <a:cs typeface="B Nazanin"/>
              </a:rPr>
              <a:t>به گونه‌اي كه طبق برآوردها </a:t>
            </a:r>
            <a:r>
              <a:rPr b="0" lang="fa-IR" sz="3200" spc="-1" strike="noStrike" u="sng">
                <a:solidFill>
                  <a:srgbClr val="ff0000"/>
                </a:solidFill>
                <a:uFillTx/>
                <a:latin typeface="Calibri"/>
                <a:ea typeface="B Nazanin"/>
              </a:rPr>
              <a:t>65</a:t>
            </a:r>
            <a:r>
              <a:rPr b="0" lang="fa-IR" sz="3200" spc="-1" strike="noStrike" u="sng">
                <a:solidFill>
                  <a:srgbClr val="ff0000"/>
                </a:solidFill>
                <a:uFillTx/>
                <a:latin typeface="Calibri"/>
                <a:ea typeface="B Nazanin"/>
              </a:rPr>
              <a:t> تا </a:t>
            </a:r>
            <a:r>
              <a:rPr b="0" lang="fa-IR" sz="3200" spc="-1" strike="noStrike" u="sng">
                <a:solidFill>
                  <a:srgbClr val="ff0000"/>
                </a:solidFill>
                <a:uFillTx/>
                <a:latin typeface="Calibri"/>
                <a:ea typeface="B Nazanin"/>
              </a:rPr>
              <a:t>85</a:t>
            </a:r>
            <a:r>
              <a:rPr b="0" lang="fa-IR" sz="3200" spc="-1" strike="noStrike" u="sng">
                <a:solidFill>
                  <a:srgbClr val="ff0000"/>
                </a:solidFill>
                <a:uFillTx/>
                <a:latin typeface="Calibri"/>
                <a:ea typeface="B Nazanin"/>
              </a:rPr>
              <a:t> درصد تمام مراقبت‌ها از نوع خودمراقبتي اس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 u="sng">
                <a:solidFill>
                  <a:srgbClr val="00b050"/>
                </a:solidFill>
                <a:uFillTx/>
                <a:latin typeface="Calibri"/>
                <a:ea typeface="B Nazanin"/>
              </a:rPr>
              <a:t>«خودمراقبتي»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Nazanin"/>
              </a:rPr>
              <a:t>شامل اعمالي است اکتسابی، آگاهانه و هدفدار كه مردم براي خود، فرزندان و خانواده شان انجام مي‌دهند تا تندرست بمانند، از سلامت جسمي، روانی و اجتماعی خود حفاظت كنند، نيازهاي جسمی، رواني و اجتماعی خود را برآورده سازند، از بيماري ها يا حوادث پيشگيري كنند، ‌بیماری‌های مزمن خود را مدیریت كنند و نيز از سلامت خود بعد از بيماري حاد يا ترخيص از بيمارستان، حفاظت كنند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77933c"/>
                </a:solidFill>
                <a:latin typeface="Calibri"/>
                <a:cs typeface="B Nazanin"/>
              </a:rPr>
              <a:t>حيطه‌هاي خودمراقبتي شامل ارتقاي سلامت، اصلاح سبک زندگي،‌ پيشگيري از بيماري، خود ارزیابی،‌ حفظ سلامت،‌ مشارکت در درمان و توان بخشي است</a:t>
            </a:r>
            <a:r>
              <a:rPr b="0" lang="fa-IR" sz="3200" spc="-1" strike="noStrike">
                <a:solidFill>
                  <a:srgbClr val="00b050"/>
                </a:solidFill>
                <a:latin typeface="Calibri"/>
                <a:ea typeface="B Nazanin"/>
              </a:rPr>
              <a:t>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Nazanin"/>
              </a:rPr>
              <a:t>در انگلستان کاهش ويزيت پزشكان عمومي تا  </a:t>
            </a:r>
            <a:r>
              <a:rPr b="0" lang="fa-IR" sz="3200" spc="-1" strike="noStrike">
                <a:solidFill>
                  <a:srgbClr val="ff0000"/>
                </a:solidFill>
                <a:latin typeface="Calibri"/>
                <a:ea typeface="B Nazanin"/>
              </a:rPr>
              <a:t>40</a:t>
            </a:r>
            <a:r>
              <a:rPr b="0" lang="fa-IR" sz="3200" spc="-1" strike="noStrike">
                <a:solidFill>
                  <a:srgbClr val="ff0000"/>
                </a:solidFill>
                <a:latin typeface="Calibri"/>
                <a:cs typeface="B Nazanin"/>
              </a:rPr>
              <a:t>درصد،</a:t>
            </a:r>
            <a:r>
              <a:rPr b="0" lang="fa-IR" sz="3200" spc="-1" strike="noStrike">
                <a:solidFill>
                  <a:srgbClr val="0d0d0d"/>
                </a:solidFill>
                <a:latin typeface="Calibri"/>
                <a:cs typeface="B Nazanin"/>
              </a:rPr>
              <a:t>کاهش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ea typeface="B Nazanin"/>
              </a:rPr>
              <a:t> ويزيت‌هاي سرپايي تا </a:t>
            </a:r>
            <a:r>
              <a:rPr b="0" lang="fa-IR" sz="3200" spc="-1" strike="noStrike">
                <a:solidFill>
                  <a:srgbClr val="ff0000"/>
                </a:solidFill>
                <a:latin typeface="Calibri"/>
                <a:ea typeface="B Nazanin"/>
              </a:rPr>
              <a:t>17</a:t>
            </a:r>
            <a:r>
              <a:rPr b="0" lang="fa-IR" sz="3200" spc="-1" strike="noStrike">
                <a:solidFill>
                  <a:srgbClr val="ff0000"/>
                </a:solidFill>
                <a:latin typeface="Calibri"/>
                <a:cs typeface="B Nazanin"/>
              </a:rPr>
              <a:t>درصد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Nazanin"/>
              </a:rPr>
              <a:t>،کاهش ويزيت‌هاي بعدي بيماري‌ها تا</a:t>
            </a:r>
            <a:r>
              <a:rPr b="0" lang="fa-IR" sz="3200" spc="-1" strike="noStrike">
                <a:solidFill>
                  <a:srgbClr val="ff0000"/>
                </a:solidFill>
                <a:latin typeface="Calibri"/>
                <a:ea typeface="B Nazanin"/>
              </a:rPr>
              <a:t>50</a:t>
            </a:r>
            <a:r>
              <a:rPr b="0" lang="fa-IR" sz="3200" spc="-1" strike="noStrike">
                <a:solidFill>
                  <a:srgbClr val="ffff00"/>
                </a:solidFill>
                <a:latin typeface="Calibri"/>
                <a:ea typeface="B Nazanin"/>
              </a:rPr>
              <a:t> </a:t>
            </a:r>
            <a:r>
              <a:rPr b="0" lang="fa-IR" sz="3200" spc="-1" strike="noStrike">
                <a:solidFill>
                  <a:srgbClr val="ff0000"/>
                </a:solidFill>
                <a:latin typeface="Calibri"/>
                <a:cs typeface="B Nazanin"/>
              </a:rPr>
              <a:t>درصد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Nazanin"/>
              </a:rPr>
              <a:t>،کاهش بستری شدن در بيمارستان تا </a:t>
            </a:r>
            <a:r>
              <a:rPr b="0" lang="fa-IR" sz="3200" spc="-1" strike="noStrike">
                <a:solidFill>
                  <a:srgbClr val="ff0000"/>
                </a:solidFill>
                <a:latin typeface="Calibri"/>
                <a:ea typeface="B Nazanin"/>
              </a:rPr>
              <a:t>50</a:t>
            </a:r>
            <a:r>
              <a:rPr b="0" lang="fa-IR" sz="3200" spc="-1" strike="noStrike">
                <a:solidFill>
                  <a:srgbClr val="ff0000"/>
                </a:solidFill>
                <a:latin typeface="Calibri"/>
                <a:ea typeface="B Nazanin"/>
              </a:rPr>
              <a:t> درصد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Nazanin"/>
              </a:rPr>
              <a:t>،کاهش طول دوره اقامت بيمار در بيمارستان تا </a:t>
            </a:r>
            <a:r>
              <a:rPr b="0" lang="fa-IR" sz="3200" spc="-1" strike="noStrike">
                <a:solidFill>
                  <a:srgbClr val="ff0000"/>
                </a:solidFill>
                <a:latin typeface="Calibri"/>
                <a:ea typeface="B Nazanin"/>
              </a:rPr>
              <a:t>50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ea typeface="B Nazanin"/>
              </a:rPr>
              <a:t> </a:t>
            </a:r>
            <a:r>
              <a:rPr b="0" lang="fa-IR" sz="3200" spc="-1" strike="noStrike">
                <a:solidFill>
                  <a:srgbClr val="ff0000"/>
                </a:solidFill>
                <a:latin typeface="Calibri"/>
                <a:cs typeface="B Nazanin"/>
              </a:rPr>
              <a:t>درصد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Nazanin"/>
              </a:rPr>
              <a:t>، کاهش و یا تعدیل مصرف داروها و کاهش روزهاي غيبت از كار تا</a:t>
            </a:r>
            <a:r>
              <a:rPr b="0" lang="fa-IR" sz="3200" spc="-1" strike="noStrike">
                <a:solidFill>
                  <a:srgbClr val="ff0000"/>
                </a:solidFill>
                <a:latin typeface="Calibri"/>
                <a:ea typeface="B Nazanin"/>
              </a:rPr>
              <a:t>50</a:t>
            </a:r>
            <a:r>
              <a:rPr b="0" lang="fa-IR" sz="3200" spc="-1" strike="noStrike">
                <a:solidFill>
                  <a:srgbClr val="ff0000"/>
                </a:solidFill>
                <a:latin typeface="Calibri"/>
                <a:ea typeface="B Nazanin"/>
              </a:rPr>
              <a:t> درصد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Nazanin"/>
              </a:rPr>
              <a:t>گزارش شده است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Nazanin"/>
              </a:rPr>
              <a:t>در برنامه تحول نظام سلامت، برنامه ملي خودمراقبتي به عنوان پنجمين برنامه ملي تحول نظام سلامت در حوزه بهداشت طراحي و بسته خودمراقبتي در تاريخ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ea typeface="B Nazanin"/>
              </a:rPr>
              <a:t>94/7/18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Nazanin"/>
              </a:rPr>
              <a:t>، طي نامه شماره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ea typeface="B Nazanin"/>
              </a:rPr>
              <a:t>11036/300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Nazanin"/>
              </a:rPr>
              <a:t>در معاونت محترم بهداشت براي اجرا، ابلاغ گردي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Nazani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Nazani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B Nazanin"/>
              </a:rPr>
              <a:t>سواد سلام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Nazanin"/>
              </a:rPr>
              <a:t>عبارت است از ميزان ظرفيت هر فرد براي كسب، درك و فهم مربوط به سلامت كه براي تصميم‌گيري و عمل مناسب اس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B Nazanin"/>
              </a:rPr>
              <a:t>سفير سلام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Nazanin"/>
              </a:rPr>
              <a:t>سفير سلامت عضوي از اعضاي يك خانوار است كه حداقل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ea typeface="B Nazanin"/>
              </a:rPr>
              <a:t>8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  <a:ea typeface="B Nazanin"/>
              </a:rPr>
              <a:t> كلاس سواد خواندن و نوشتن دارد و به صورت داوطلبانه مسووليت انتقال مطالب آموخته شده در حوزه سلامت و مراقبت فعال از سلامت خود و اعضاي خانواده و جامعه را بر عهده دار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2666880" y="-222840"/>
            <a:ext cx="28195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B Titr"/>
              </a:rPr>
              <a:t>واژه نام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0000"/>
                </a:solidFill>
                <a:latin typeface="Calibri"/>
                <a:cs typeface="B Nazanin"/>
              </a:rPr>
              <a:t>خودمراقبتي سازمان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Calibri"/>
                <a:cs typeface="B Nazanin"/>
              </a:rPr>
              <a:t>فرآيندي انتخابي، مشاركتي و فعال براي ارتقاي سلامت يك سازمان‌‌ است كه توسط ائتلافي از اعضاي سازمان، طراحي، اجرا، پايش و ارزشيابي مي‌شو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0000"/>
                </a:solidFill>
                <a:latin typeface="Calibri"/>
                <a:cs typeface="B Nazanin"/>
              </a:rPr>
              <a:t>خودمراقبتي اجتماع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Calibri"/>
                <a:cs typeface="B Nazanin"/>
              </a:rPr>
              <a:t>فرآيندي انتخابي، مشاركتي و فعال براي ارتقاي سلامت يك جامعه است كه توسط ائتلافي از شهروندان آن جامعه، طراحي، اجرا، پايش و ارزشيابي مي‌شو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0000"/>
                </a:solidFill>
                <a:latin typeface="Calibri"/>
                <a:cs typeface="B Nazanin"/>
              </a:rPr>
              <a:t>خودمراقبتي فرد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Calibri"/>
                <a:cs typeface="B Nazanin"/>
              </a:rPr>
              <a:t>شامل اعمالي است اکتسابی، آگاهانه و هدفدار كه فرد براي خود، فرزندان و خانواده‌اش انجام مي‌دهد تا سالم بمانند، از سلامت جسمي، روانی و اجتماعی خود و خانواده خود حفاظت كند، نيازهاي جسمی، رواني و اجتماعی خود و آنها را برآورده سازد، از بيماري‌ها يا حوادث پيشگيري كند، ‌بیماری های مزمن خود و خانواده خود را مدیریت كند و نيز از سلامت خود و خانواده‌اش بعد از ابتلا به بيماري حاد يا ترخيص از بيمارستان، حفاظت كن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0000"/>
                </a:solidFill>
                <a:latin typeface="Calibri"/>
                <a:cs typeface="Times New Roman"/>
              </a:rPr>
              <a:t>خود مراقبتی سازمان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هدف در این رویکرد ایجاد محیط کار سالم از طریق اجرای برنامه ها و خط مشی های ارتقای سلامت در محل کار،خلق محیط فیزیکی و فرهنگ حمایتی و تشویق زندگی سالم با همکاری کارکنان و کارفرمایان اس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Ramesh Nahidi</dc:creator>
  <dc:description/>
  <dc:language>en-US</dc:language>
  <cp:lastModifiedBy>behvarzi</cp:lastModifiedBy>
  <dcterms:modified xsi:type="dcterms:W3CDTF">2020-06-30T07:34:55Z</dcterms:modified>
  <cp:revision>56</cp:revision>
  <dc:subject/>
  <dc:title>Slide 1</dc:title>
</cp:coreProperties>
</file>